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黑体"/>
              </a:rPr>
              <a:t>Click to move the slide</a:t>
            </a: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dt" idx="10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2D8F-4CB3-45A9-94D3-24167EC3B8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eihua.docer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9733-0725-4637-BC94-20AABC8E94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15FB-E89D-4B8C-B1D0-C105748B644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A03-D931-4F56-97E8-DF706EF0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8EE-B1B6-40F4-B64E-A3AA685A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685-6171-4020-A3F2-AE5FACFC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523F-F8A5-40A9-BB0C-7D77D65A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F6C7-FDF3-4D3E-8052-5DBDB49B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986C-127E-45B3-BE26-C3A6F0D9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C8F2-3828-4CFB-B2BE-741B8D62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B25A-F8AA-4F61-AD83-8E521D4C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3F6A-C558-47CD-B0D8-4C87A784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9040" y="157320"/>
            <a:ext cx="829152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205B-94F1-4A03-8C87-B519A4E6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CA58-80E0-4333-AB73-CCDA5BF1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4A3-819C-4B41-8021-D2934C42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F801-0590-41E1-9F8A-527559BB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AA25-3A76-4569-A3B3-535284AA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C3E1-CCA9-4F74-8CBC-ECACFAD7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8170-9E0C-477C-89CA-88E2009D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904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272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640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AF94-53BF-4549-9C73-6390E002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692F8-0DC3-4FAB-8F78-77154E53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8C095-8867-45EF-8E7B-6C9D9920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2CF88-6166-4C84-9D4D-4138914A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8B5F0-630D-4E5E-82DE-CF3CF31A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75BEE-BFA5-45AE-B75E-EA2AB474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367-C07E-4A63-BA0F-66987C56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19040" y="157320"/>
            <a:ext cx="829152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91790-8BA9-452F-84C6-14865E95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3B7C7-B3D0-4854-A2E0-31F25E42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69514-A3EC-453D-927B-8A28C81D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D2943-63AF-484B-9064-3F77077F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30573-6C24-41D2-A04D-B8FE0000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B57CB-DD57-4FCD-AD32-C3C57540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904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2272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640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1BE65-5004-482B-8E27-2F09817A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BA4-94A0-45A7-8592-D6C0A21F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322-A02F-4585-B377-FF98B966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157320"/>
            <a:ext cx="829152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42C0-AFB5-4CF5-9AE5-2045513A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743-40B3-48F6-957B-292575AC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47A-1C00-40E1-857C-731DFFB6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4423-7003-4E91-9347-2CD004DA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EC73-256F-4A7E-9375-9DFF739D5B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5" descr=""/>
          <p:cNvPicPr/>
          <p:nvPr/>
        </p:nvPicPr>
        <p:blipFill>
          <a:blip r:embed="rId2"/>
          <a:stretch/>
        </p:blipFill>
        <p:spPr>
          <a:xfrm>
            <a:off x="1463760" y="1614600"/>
            <a:ext cx="7680240" cy="52434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4400" y="1219320"/>
            <a:ext cx="9129600" cy="563868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pic>
        <p:nvPicPr>
          <p:cNvPr id="47" name="图片 13" descr=""/>
          <p:cNvPicPr/>
          <p:nvPr/>
        </p:nvPicPr>
        <p:blipFill>
          <a:blip r:embed="rId3"/>
          <a:stretch/>
        </p:blipFill>
        <p:spPr>
          <a:xfrm>
            <a:off x="6748560" y="5222880"/>
            <a:ext cx="2395440" cy="1635120"/>
          </a:xfrm>
          <a:prstGeom prst="rect">
            <a:avLst/>
          </a:prstGeom>
          <a:ln w="0">
            <a:noFill/>
          </a:ln>
        </p:spPr>
      </p:pic>
      <p:sp>
        <p:nvSpPr>
          <p:cNvPr id="48" name="任意多边形 14"/>
          <p:cNvSpPr/>
          <p:nvPr/>
        </p:nvSpPr>
        <p:spPr>
          <a:xfrm>
            <a:off x="14400" y="733320"/>
            <a:ext cx="9129600" cy="366840"/>
          </a:xfrm>
          <a:custGeom>
            <a:avLst/>
            <a:gdLst/>
            <a:ahLst/>
            <a:rect l="l" t="t" r="r" b="b"/>
            <a:pathLst>
              <a:path w="9129932" h="366639">
                <a:moveTo>
                  <a:pt x="0" y="169623"/>
                </a:moveTo>
                <a:cubicBezTo>
                  <a:pt x="225083" y="243478"/>
                  <a:pt x="450166" y="317334"/>
                  <a:pt x="858129" y="310300"/>
                </a:cubicBezTo>
                <a:cubicBezTo>
                  <a:pt x="1266092" y="303266"/>
                  <a:pt x="1885070" y="118042"/>
                  <a:pt x="2447778" y="127420"/>
                </a:cubicBezTo>
                <a:cubicBezTo>
                  <a:pt x="3010486" y="136798"/>
                  <a:pt x="3685735" y="371259"/>
                  <a:pt x="4234375" y="366570"/>
                </a:cubicBezTo>
                <a:cubicBezTo>
                  <a:pt x="4783015" y="361881"/>
                  <a:pt x="5258972" y="125075"/>
                  <a:pt x="5739618" y="99284"/>
                </a:cubicBezTo>
                <a:cubicBezTo>
                  <a:pt x="6220264" y="73493"/>
                  <a:pt x="6698566" y="225894"/>
                  <a:pt x="7118252" y="211826"/>
                </a:cubicBezTo>
                <a:cubicBezTo>
                  <a:pt x="7537938" y="197758"/>
                  <a:pt x="7922455" y="45358"/>
                  <a:pt x="8257735" y="14878"/>
                </a:cubicBezTo>
                <a:cubicBezTo>
                  <a:pt x="8593015" y="-15602"/>
                  <a:pt x="8861473" y="6672"/>
                  <a:pt x="9129932" y="28946"/>
                </a:cubicBezTo>
              </a:path>
            </a:pathLst>
          </a:custGeom>
          <a:noFill/>
          <a:ln w="25560">
            <a:solidFill>
              <a:srgbClr val="7793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8AEC-58EF-414C-B7E6-A26BCCE45B8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0" descr=""/>
          <p:cNvPicPr/>
          <p:nvPr/>
        </p:nvPicPr>
        <p:blipFill>
          <a:blip r:embed="rId2"/>
          <a:stretch/>
        </p:blipFill>
        <p:spPr>
          <a:xfrm>
            <a:off x="782640" y="0"/>
            <a:ext cx="7875720" cy="4608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7441-4306-4F9B-BFD1-F7E69FB02756}" type="slidenum">
              <a:rPr b="0" lang="zh-CN" sz="12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lart.benke.chaoxing.com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5760" y="5003640"/>
            <a:ext cx="70041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a452"/>
                </a:solidFill>
                <a:latin typeface="黑体"/>
              </a:rPr>
              <a:t>“</a:t>
            </a:r>
            <a:r>
              <a:rPr b="1" lang="zh-CN" sz="3200" spc="-1" strike="noStrike">
                <a:solidFill>
                  <a:srgbClr val="87a452"/>
                </a:solidFill>
                <a:latin typeface="黑体"/>
              </a:rPr>
              <a:t>超星尔雅</a:t>
            </a:r>
            <a:r>
              <a:rPr b="1" lang="en-US" sz="3200" spc="-1" strike="noStrike">
                <a:solidFill>
                  <a:srgbClr val="87a452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87a452"/>
                </a:solidFill>
                <a:latin typeface="黑体"/>
              </a:rPr>
              <a:t>网络选修课”</a:t>
            </a:r>
            <a:br>
              <a:rPr sz="3200"/>
            </a:br>
            <a:r>
              <a:rPr b="1" lang="zh-CN" sz="3200" spc="-1" strike="noStrike">
                <a:solidFill>
                  <a:srgbClr val="87a452"/>
                </a:solidFill>
                <a:latin typeface="黑体"/>
              </a:rPr>
              <a:t>学生操作指南</a:t>
            </a: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9760" y="1066320"/>
            <a:ext cx="8291520" cy="4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dc"/>
                </a:solidFill>
                <a:latin typeface="黑体"/>
              </a:rPr>
              <a:t>学习过程中常见问题应急处理办法：</a:t>
            </a:r>
            <a:endParaRPr b="1" lang="en-US" sz="18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7800" y="2001600"/>
            <a:ext cx="8291520" cy="35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1</a:t>
            </a: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）视频无法播放</a:t>
            </a:r>
            <a:endParaRPr b="0" lang="en-US" sz="1600" spc="-1" strike="noStrike">
              <a:solidFill>
                <a:srgbClr val="87a452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解决办法：在视频播放器右下角切换到“公网标清”试试，如果视频是黑屏的话，建议安装</a:t>
            </a: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flash</a:t>
            </a: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播放插件。</a:t>
            </a:r>
            <a:endParaRPr b="0" lang="en-US" sz="1600" spc="-1" strike="noStrike">
              <a:solidFill>
                <a:srgbClr val="87a452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2</a:t>
            </a: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）作业界面显示不全</a:t>
            </a:r>
            <a:endParaRPr b="0" lang="en-US" sz="1600" spc="-1" strike="noStrike">
              <a:solidFill>
                <a:srgbClr val="87a452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解决办法：建议用谷歌或者是火狐浏览器重新打开试一下。</a:t>
            </a:r>
            <a:endParaRPr b="0" lang="en-US" sz="1600" spc="-1" strike="noStrike">
              <a:solidFill>
                <a:srgbClr val="87a452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3</a:t>
            </a: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）视频无法播放下一集</a:t>
            </a:r>
            <a:endParaRPr b="0" lang="en-US" sz="1600" spc="-1" strike="noStrike">
              <a:solidFill>
                <a:srgbClr val="87a452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解决办法：建议把视频和作业全部完成之后才可以进入下一集，如果都完成了还是进入不了下一集的话，点击页面右侧的章节后的小圆圈，复核一下试试。</a:t>
            </a:r>
            <a:endParaRPr b="0" lang="en-US" sz="1600" spc="-1" strike="noStrike">
              <a:solidFill>
                <a:srgbClr val="87a452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4</a:t>
            </a: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）什么时候考试</a:t>
            </a:r>
            <a:endParaRPr b="0" lang="en-US" sz="1600" spc="-1" strike="noStrike">
              <a:solidFill>
                <a:srgbClr val="87a452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解决办法：建议自己登陆后点击导航栏的“考试”，查看考试时间。</a:t>
            </a:r>
            <a:endParaRPr b="0" lang="en-US" sz="1600" spc="-1" strike="noStrike">
              <a:solidFill>
                <a:srgbClr val="87a452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57040" y="444600"/>
            <a:ext cx="34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a8c85"/>
                </a:solidFill>
                <a:latin typeface="Arial"/>
                <a:ea typeface="宋体"/>
              </a:rPr>
              <a:t>学生学习界面图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357120" y="1622520"/>
            <a:ext cx="8514000" cy="478944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206"/>
          <p:cNvSpPr/>
          <p:nvPr/>
        </p:nvSpPr>
        <p:spPr>
          <a:xfrm>
            <a:off x="3441600" y="1946160"/>
            <a:ext cx="773280" cy="276480"/>
          </a:xfrm>
          <a:prstGeom prst="wedgeRoundRectCallout">
            <a:avLst>
              <a:gd name="adj1" fmla="val -72337"/>
              <a:gd name="adj2" fmla="val 66550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作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06"/>
          <p:cNvSpPr/>
          <p:nvPr/>
        </p:nvSpPr>
        <p:spPr>
          <a:xfrm>
            <a:off x="1220760" y="1946160"/>
            <a:ext cx="771480" cy="276480"/>
          </a:xfrm>
          <a:prstGeom prst="wedgeRoundRectCallout">
            <a:avLst>
              <a:gd name="adj1" fmla="val 53453"/>
              <a:gd name="adj2" fmla="val 9689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视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06"/>
          <p:cNvSpPr/>
          <p:nvPr/>
        </p:nvSpPr>
        <p:spPr>
          <a:xfrm>
            <a:off x="7711920" y="2536920"/>
            <a:ext cx="938520" cy="276120"/>
          </a:xfrm>
          <a:prstGeom prst="wedgeRoundRectCallout">
            <a:avLst>
              <a:gd name="adj1" fmla="val 50740"/>
              <a:gd name="adj2" fmla="val -193212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复合按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06"/>
          <p:cNvSpPr/>
          <p:nvPr/>
        </p:nvSpPr>
        <p:spPr>
          <a:xfrm>
            <a:off x="4354560" y="6411960"/>
            <a:ext cx="950760" cy="276120"/>
          </a:xfrm>
          <a:prstGeom prst="wedgeRoundRectCallout">
            <a:avLst>
              <a:gd name="adj1" fmla="val -62277"/>
              <a:gd name="adj2" fmla="val -89995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公网标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7a452"/>
                </a:solidFill>
                <a:latin typeface="黑体"/>
              </a:rPr>
              <a:t>三：如何做作业</a:t>
            </a:r>
            <a:endParaRPr b="1" lang="en-US" sz="28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588960" y="1306440"/>
            <a:ext cx="7480440" cy="549108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06"/>
          <p:cNvSpPr/>
          <p:nvPr/>
        </p:nvSpPr>
        <p:spPr>
          <a:xfrm>
            <a:off x="5516640" y="1030320"/>
            <a:ext cx="960480" cy="276120"/>
          </a:xfrm>
          <a:prstGeom prst="wedgeRoundRectCallout">
            <a:avLst>
              <a:gd name="adj1" fmla="val -98773"/>
              <a:gd name="adj2" fmla="val 173217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作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06"/>
          <p:cNvSpPr/>
          <p:nvPr/>
        </p:nvSpPr>
        <p:spPr>
          <a:xfrm>
            <a:off x="3683160" y="5896080"/>
            <a:ext cx="960120" cy="276120"/>
          </a:xfrm>
          <a:prstGeom prst="wedgeRoundRectCallout">
            <a:avLst>
              <a:gd name="adj1" fmla="val -58060"/>
              <a:gd name="adj2" fmla="val 112069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提交作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06"/>
          <p:cNvSpPr/>
          <p:nvPr/>
        </p:nvSpPr>
        <p:spPr>
          <a:xfrm>
            <a:off x="4821120" y="5896080"/>
            <a:ext cx="960480" cy="276120"/>
          </a:xfrm>
          <a:prstGeom prst="wedgeRoundRectCallout">
            <a:avLst>
              <a:gd name="adj1" fmla="val -57990"/>
              <a:gd name="adj2" fmla="val 119657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保存作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06"/>
          <p:cNvSpPr/>
          <p:nvPr/>
        </p:nvSpPr>
        <p:spPr>
          <a:xfrm>
            <a:off x="588960" y="3416400"/>
            <a:ext cx="960480" cy="276120"/>
          </a:xfrm>
          <a:prstGeom prst="wedgeRoundRectCallout">
            <a:avLst>
              <a:gd name="adj1" fmla="val 66060"/>
              <a:gd name="adj2" fmla="val 15413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选择选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MH_Other_1"/>
          <p:cNvSpPr/>
          <p:nvPr/>
        </p:nvSpPr>
        <p:spPr>
          <a:xfrm>
            <a:off x="2128680" y="2021040"/>
            <a:ext cx="997200" cy="1201680"/>
          </a:xfrm>
          <a:prstGeom prst="rect">
            <a:avLst/>
          </a:prstGeom>
          <a:solidFill>
            <a:srgbClr val="82d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effff"/>
                </a:solidFill>
                <a:latin typeface="Arial"/>
                <a:ea typeface="微软雅黑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MH_SubTitle_1"/>
          <p:cNvSpPr/>
          <p:nvPr/>
        </p:nvSpPr>
        <p:spPr>
          <a:xfrm>
            <a:off x="3241800" y="2021040"/>
            <a:ext cx="45990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a452"/>
                </a:solidFill>
                <a:latin typeface="Arial"/>
                <a:ea typeface="微软雅黑"/>
              </a:rPr>
              <a:t>作业一旦提交就无法更改，请提交前一定要确认试题是否是全部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MH_Other_2"/>
          <p:cNvSpPr/>
          <p:nvPr/>
        </p:nvSpPr>
        <p:spPr>
          <a:xfrm>
            <a:off x="2259000" y="2206800"/>
            <a:ext cx="17352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fff"/>
                </a:solidFill>
                <a:latin typeface="Arial"/>
                <a:ea typeface="微软雅黑"/>
              </a:rPr>
              <a:t>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MH_Other_3"/>
          <p:cNvSpPr/>
          <p:nvPr/>
        </p:nvSpPr>
        <p:spPr>
          <a:xfrm>
            <a:off x="2128680" y="3273480"/>
            <a:ext cx="997200" cy="1200240"/>
          </a:xfrm>
          <a:prstGeom prst="rect">
            <a:avLst/>
          </a:prstGeom>
          <a:solidFill>
            <a:srgbClr val="02a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effff"/>
                </a:solidFill>
                <a:latin typeface="Arial"/>
                <a:ea typeface="微软雅黑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MH_SubTitle_2"/>
          <p:cNvSpPr/>
          <p:nvPr/>
        </p:nvSpPr>
        <p:spPr>
          <a:xfrm>
            <a:off x="3241800" y="3273480"/>
            <a:ext cx="45990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11adc"/>
                </a:solidFill>
                <a:latin typeface="Arial"/>
                <a:ea typeface="微软雅黑"/>
              </a:rPr>
              <a:t>保存作业只是保存当前完成的选项，不是提交作业，如果只保存不提交的话，是没有作业成绩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MH_Other_4"/>
          <p:cNvSpPr/>
          <p:nvPr/>
        </p:nvSpPr>
        <p:spPr>
          <a:xfrm>
            <a:off x="2259000" y="3457440"/>
            <a:ext cx="1735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fff"/>
                </a:solidFill>
                <a:latin typeface="Arial"/>
                <a:ea typeface="微软雅黑"/>
              </a:rPr>
              <a:t>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MH_Other_5"/>
          <p:cNvSpPr/>
          <p:nvPr/>
        </p:nvSpPr>
        <p:spPr>
          <a:xfrm>
            <a:off x="2128680" y="4524480"/>
            <a:ext cx="997200" cy="1201680"/>
          </a:xfrm>
          <a:prstGeom prst="rect">
            <a:avLst/>
          </a:prstGeom>
          <a:solidFill>
            <a:srgbClr val="a36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effff"/>
                </a:solidFill>
                <a:latin typeface="Arial"/>
                <a:ea typeface="微软雅黑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MH_SubTitle_3"/>
          <p:cNvSpPr/>
          <p:nvPr/>
        </p:nvSpPr>
        <p:spPr>
          <a:xfrm>
            <a:off x="3241800" y="4524480"/>
            <a:ext cx="45990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0093"/>
                </a:solidFill>
                <a:latin typeface="Arial"/>
                <a:ea typeface="微软雅黑"/>
              </a:rPr>
              <a:t>作业提交不成功的话，建议先换谷歌浏览器和网络环境好的地方尝试提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MH_Other_6"/>
          <p:cNvSpPr/>
          <p:nvPr/>
        </p:nvSpPr>
        <p:spPr>
          <a:xfrm>
            <a:off x="2259000" y="4710240"/>
            <a:ext cx="17352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fff"/>
                </a:solidFill>
                <a:latin typeface="Arial"/>
                <a:ea typeface="微软雅黑"/>
              </a:rPr>
              <a:t>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83080" y="1168200"/>
            <a:ext cx="220824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98e0d"/>
                </a:solidFill>
                <a:latin typeface="黑体"/>
              </a:rPr>
              <a:t>做作业注意事项</a:t>
            </a:r>
            <a:endParaRPr b="1" lang="en-US" sz="2000" spc="-1" strike="noStrike">
              <a:solidFill>
                <a:srgbClr val="87a452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040" y="136080"/>
            <a:ext cx="829152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7a452"/>
                </a:solidFill>
                <a:latin typeface="黑体"/>
              </a:rPr>
              <a:t>三：如何考试</a:t>
            </a:r>
            <a:endParaRPr b="1" lang="en-US" sz="28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384120" y="1319040"/>
            <a:ext cx="8528040" cy="434196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06"/>
          <p:cNvSpPr/>
          <p:nvPr/>
        </p:nvSpPr>
        <p:spPr>
          <a:xfrm>
            <a:off x="7743960" y="789120"/>
            <a:ext cx="853920" cy="276120"/>
          </a:xfrm>
          <a:prstGeom prst="wedgeRoundRectCallout">
            <a:avLst>
              <a:gd name="adj1" fmla="val 10013"/>
              <a:gd name="adj2" fmla="val 173217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考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06"/>
          <p:cNvSpPr/>
          <p:nvPr/>
        </p:nvSpPr>
        <p:spPr>
          <a:xfrm>
            <a:off x="3649680" y="1811160"/>
            <a:ext cx="960480" cy="276480"/>
          </a:xfrm>
          <a:prstGeom prst="wedgeRoundRectCallout">
            <a:avLst>
              <a:gd name="adj1" fmla="val -98773"/>
              <a:gd name="adj2" fmla="val 173217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考试分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MH_Other_1"/>
          <p:cNvSpPr/>
          <p:nvPr/>
        </p:nvSpPr>
        <p:spPr>
          <a:xfrm rot="16200000">
            <a:off x="1639800" y="3731760"/>
            <a:ext cx="2086200" cy="514440"/>
          </a:xfrm>
          <a:prstGeom prst="parallelogram">
            <a:avLst>
              <a:gd name="adj" fmla="val 156654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MH_Other_2"/>
          <p:cNvSpPr/>
          <p:nvPr/>
        </p:nvSpPr>
        <p:spPr>
          <a:xfrm>
            <a:off x="1608120" y="2771640"/>
            <a:ext cx="184320" cy="17460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MH_SubTitle_1"/>
          <p:cNvSpPr/>
          <p:nvPr/>
        </p:nvSpPr>
        <p:spPr>
          <a:xfrm>
            <a:off x="1055520" y="2946240"/>
            <a:ext cx="1378080" cy="2086200"/>
          </a:xfrm>
          <a:prstGeom prst="rect">
            <a:avLst/>
          </a:prstGeom>
          <a:solidFill>
            <a:srgbClr val="feffff"/>
          </a:solidFill>
          <a:ln w="3240">
            <a:solidFill>
              <a:srgbClr val="fec306"/>
            </a:solidFill>
            <a:miter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44000" bIns="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98e0d"/>
                </a:solidFill>
                <a:latin typeface="Arial"/>
                <a:ea typeface="微软雅黑"/>
              </a:rPr>
              <a:t>考试有限制时间，点击考试后在右上角会有提示</a:t>
            </a:r>
            <a:r>
              <a:rPr b="0" lang="en-US" sz="1600" spc="-1" strike="noStrike">
                <a:solidFill>
                  <a:srgbClr val="e98e0d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MH_Other_3"/>
          <p:cNvSpPr/>
          <p:nvPr/>
        </p:nvSpPr>
        <p:spPr>
          <a:xfrm>
            <a:off x="1122480" y="2771640"/>
            <a:ext cx="476280" cy="543240"/>
          </a:xfrm>
          <a:prstGeom prst="pie">
            <a:avLst/>
          </a:prstGeom>
          <a:solidFill>
            <a:srgbClr val="f5bb01"/>
          </a:solidFill>
          <a:ln w="0">
            <a:noFill/>
          </a:ln>
          <a:effectLst>
            <a:outerShdw dist="255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fff"/>
                </a:solidFill>
                <a:latin typeface="Arial"/>
                <a:ea typeface="微软雅黑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MH_Other_4"/>
          <p:cNvSpPr/>
          <p:nvPr/>
        </p:nvSpPr>
        <p:spPr>
          <a:xfrm rot="16200000">
            <a:off x="3525840" y="3731760"/>
            <a:ext cx="2086200" cy="514440"/>
          </a:xfrm>
          <a:prstGeom prst="parallelogram">
            <a:avLst>
              <a:gd name="adj" fmla="val 156654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MH_Other_5"/>
          <p:cNvSpPr/>
          <p:nvPr/>
        </p:nvSpPr>
        <p:spPr>
          <a:xfrm>
            <a:off x="3494160" y="2771640"/>
            <a:ext cx="183960" cy="17460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MH_SubTitle_2"/>
          <p:cNvSpPr/>
          <p:nvPr/>
        </p:nvSpPr>
        <p:spPr>
          <a:xfrm>
            <a:off x="2940120" y="2946240"/>
            <a:ext cx="1377720" cy="2086200"/>
          </a:xfrm>
          <a:prstGeom prst="rect">
            <a:avLst/>
          </a:prstGeom>
          <a:solidFill>
            <a:srgbClr val="feffff"/>
          </a:solidFill>
          <a:ln w="3240">
            <a:solidFill>
              <a:srgbClr val="60a7fe"/>
            </a:solidFill>
            <a:miter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44000" bIns="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a7fe"/>
                </a:solidFill>
                <a:latin typeface="Arial"/>
                <a:ea typeface="微软雅黑"/>
              </a:rPr>
              <a:t>保存考试之后，下次登录考试时间是累计的</a:t>
            </a:r>
            <a:r>
              <a:rPr b="0" lang="en-US" sz="1800" spc="-1" strike="noStrike">
                <a:solidFill>
                  <a:srgbClr val="5fa7fe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MH_Other_6"/>
          <p:cNvSpPr/>
          <p:nvPr/>
        </p:nvSpPr>
        <p:spPr>
          <a:xfrm>
            <a:off x="3008160" y="2771640"/>
            <a:ext cx="476280" cy="543240"/>
          </a:xfrm>
          <a:prstGeom prst="pie">
            <a:avLst/>
          </a:prstGeom>
          <a:solidFill>
            <a:srgbClr val="5fa7fe"/>
          </a:solidFill>
          <a:ln w="0">
            <a:noFill/>
          </a:ln>
          <a:effectLst>
            <a:outerShdw dist="255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fff"/>
                </a:solidFill>
                <a:latin typeface="Arial"/>
                <a:ea typeface="微软雅黑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MH_Other_7"/>
          <p:cNvSpPr/>
          <p:nvPr/>
        </p:nvSpPr>
        <p:spPr>
          <a:xfrm rot="16200000">
            <a:off x="5410080" y="3731760"/>
            <a:ext cx="2086200" cy="514440"/>
          </a:xfrm>
          <a:prstGeom prst="parallelogram">
            <a:avLst>
              <a:gd name="adj" fmla="val 156654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MH_Other_8"/>
          <p:cNvSpPr/>
          <p:nvPr/>
        </p:nvSpPr>
        <p:spPr>
          <a:xfrm>
            <a:off x="5378400" y="2771640"/>
            <a:ext cx="184320" cy="17460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MH_SubTitle_3"/>
          <p:cNvSpPr/>
          <p:nvPr/>
        </p:nvSpPr>
        <p:spPr>
          <a:xfrm>
            <a:off x="4826160" y="2946240"/>
            <a:ext cx="1377720" cy="2086200"/>
          </a:xfrm>
          <a:prstGeom prst="rect">
            <a:avLst/>
          </a:prstGeom>
          <a:solidFill>
            <a:srgbClr val="feffff"/>
          </a:solidFill>
          <a:ln w="3240">
            <a:solidFill>
              <a:srgbClr val="71cc36"/>
            </a:solidFill>
            <a:miter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44000" bIns="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微软雅黑"/>
              </a:rPr>
              <a:t>一定要注意考试时间，错过考试时间按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微软雅黑"/>
              </a:rPr>
              <a:t>0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微软雅黑"/>
              </a:rPr>
              <a:t>分处理</a:t>
            </a:r>
            <a:r>
              <a:rPr b="0" lang="en-US" sz="2000" spc="-1" strike="noStrike">
                <a:solidFill>
                  <a:srgbClr val="72cc36"/>
                </a:solidFill>
                <a:latin typeface="Arial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MH_Other_9"/>
          <p:cNvSpPr/>
          <p:nvPr/>
        </p:nvSpPr>
        <p:spPr>
          <a:xfrm>
            <a:off x="4894200" y="2771640"/>
            <a:ext cx="474840" cy="543240"/>
          </a:xfrm>
          <a:prstGeom prst="pie">
            <a:avLst/>
          </a:prstGeom>
          <a:solidFill>
            <a:srgbClr val="72cc36"/>
          </a:solidFill>
          <a:ln w="0">
            <a:noFill/>
          </a:ln>
          <a:effectLst>
            <a:outerShdw dist="255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fff"/>
                </a:solidFill>
                <a:latin typeface="Arial"/>
                <a:ea typeface="微软雅黑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MH_Other_10"/>
          <p:cNvSpPr/>
          <p:nvPr/>
        </p:nvSpPr>
        <p:spPr>
          <a:xfrm>
            <a:off x="7264440" y="2771640"/>
            <a:ext cx="183960" cy="17460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MH_SubTitle_4"/>
          <p:cNvSpPr/>
          <p:nvPr/>
        </p:nvSpPr>
        <p:spPr>
          <a:xfrm>
            <a:off x="6710400" y="2946240"/>
            <a:ext cx="1378080" cy="2086200"/>
          </a:xfrm>
          <a:prstGeom prst="rect">
            <a:avLst/>
          </a:prstGeom>
          <a:solidFill>
            <a:srgbClr val="feffff"/>
          </a:solidFill>
          <a:ln w="3240">
            <a:solidFill>
              <a:srgbClr val="e85d46"/>
            </a:solidFill>
            <a:miter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44000" bIns="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c45"/>
                </a:solidFill>
                <a:latin typeface="Arial"/>
                <a:ea typeface="微软雅黑"/>
              </a:rPr>
              <a:t>在时间结束之前，一定要提交考试，保存不提交时没有成绩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MH_Other_11"/>
          <p:cNvSpPr/>
          <p:nvPr/>
        </p:nvSpPr>
        <p:spPr>
          <a:xfrm>
            <a:off x="6778800" y="2771640"/>
            <a:ext cx="475920" cy="543240"/>
          </a:xfrm>
          <a:prstGeom prst="pie">
            <a:avLst/>
          </a:prstGeom>
          <a:solidFill>
            <a:srgbClr val="e85c45"/>
          </a:solidFill>
          <a:ln w="0">
            <a:noFill/>
          </a:ln>
          <a:effectLst>
            <a:outerShdw dist="255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fff"/>
                </a:solidFill>
                <a:latin typeface="Arial"/>
                <a:ea typeface="微软雅黑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06520" y="1235160"/>
            <a:ext cx="222228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98e0d"/>
                </a:solidFill>
                <a:latin typeface="黑体"/>
              </a:rPr>
              <a:t>考试注意事项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7a452"/>
                </a:solidFill>
                <a:latin typeface="黑体"/>
              </a:rPr>
              <a:t>五：如何查看统计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612720" y="1708200"/>
            <a:ext cx="7642440" cy="324972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206"/>
          <p:cNvSpPr/>
          <p:nvPr/>
        </p:nvSpPr>
        <p:spPr>
          <a:xfrm>
            <a:off x="5665680" y="1295280"/>
            <a:ext cx="959040" cy="276480"/>
          </a:xfrm>
          <a:prstGeom prst="wedgeRoundRectCallout">
            <a:avLst>
              <a:gd name="adj1" fmla="val 47356"/>
              <a:gd name="adj2" fmla="val 142643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统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06"/>
          <p:cNvSpPr/>
          <p:nvPr/>
        </p:nvSpPr>
        <p:spPr>
          <a:xfrm>
            <a:off x="3089160" y="2190600"/>
            <a:ext cx="962280" cy="276480"/>
          </a:xfrm>
          <a:prstGeom prst="wedgeRoundRectCallout">
            <a:avLst>
              <a:gd name="adj1" fmla="val -62486"/>
              <a:gd name="adj2" fmla="val 119884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进度统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06"/>
          <p:cNvSpPr/>
          <p:nvPr/>
        </p:nvSpPr>
        <p:spPr>
          <a:xfrm>
            <a:off x="4705200" y="2052720"/>
            <a:ext cx="960480" cy="276120"/>
          </a:xfrm>
          <a:prstGeom prst="wedgeRoundRectCallout">
            <a:avLst>
              <a:gd name="adj1" fmla="val -49273"/>
              <a:gd name="adj2" fmla="val 161722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章节统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06"/>
          <p:cNvSpPr/>
          <p:nvPr/>
        </p:nvSpPr>
        <p:spPr>
          <a:xfrm>
            <a:off x="6624720" y="2190600"/>
            <a:ext cx="960480" cy="276480"/>
          </a:xfrm>
          <a:prstGeom prst="wedgeRoundRectCallout">
            <a:avLst>
              <a:gd name="adj1" fmla="val -57000"/>
              <a:gd name="adj2" fmla="val 104481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访问统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69600" y="1231560"/>
            <a:ext cx="252108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98e0d"/>
                </a:solidFill>
                <a:latin typeface="黑体"/>
              </a:rPr>
              <a:t>统计功能详解：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35" name="MH_Other_1"/>
          <p:cNvSpPr/>
          <p:nvPr/>
        </p:nvSpPr>
        <p:spPr>
          <a:xfrm>
            <a:off x="1170000" y="2549520"/>
            <a:ext cx="1520640" cy="74916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幼圆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MH_Other_2" descr=""/>
          <p:cNvPicPr/>
          <p:nvPr/>
        </p:nvPicPr>
        <p:blipFill>
          <a:blip r:embed="rId1"/>
          <a:srcRect l="0" t="50900" r="0" b="0"/>
          <a:stretch/>
        </p:blipFill>
        <p:spPr>
          <a:xfrm>
            <a:off x="669960" y="2549520"/>
            <a:ext cx="2521080" cy="108000"/>
          </a:xfrm>
          <a:prstGeom prst="rect">
            <a:avLst/>
          </a:prstGeom>
          <a:ln w="0">
            <a:noFill/>
          </a:ln>
        </p:spPr>
      </p:pic>
      <p:sp>
        <p:nvSpPr>
          <p:cNvPr id="237" name="MH_Text_1"/>
          <p:cNvSpPr/>
          <p:nvPr/>
        </p:nvSpPr>
        <p:spPr>
          <a:xfrm>
            <a:off x="855720" y="4105440"/>
            <a:ext cx="214956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微软雅黑"/>
              </a:rPr>
              <a:t>可以查看各项比例和成绩，以及任务完成数和总成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MH_SubTitle_1"/>
          <p:cNvSpPr/>
          <p:nvPr/>
        </p:nvSpPr>
        <p:spPr>
          <a:xfrm>
            <a:off x="855720" y="3463920"/>
            <a:ext cx="21495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10b1f"/>
                </a:solidFill>
                <a:latin typeface="微软雅黑"/>
                <a:ea typeface="微软雅黑"/>
              </a:rPr>
              <a:t>进度统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MH_Other_3"/>
          <p:cNvSpPr/>
          <p:nvPr/>
        </p:nvSpPr>
        <p:spPr>
          <a:xfrm>
            <a:off x="3811680" y="2549520"/>
            <a:ext cx="1520640" cy="74916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幼圆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MH_Other_4" descr=""/>
          <p:cNvPicPr/>
          <p:nvPr/>
        </p:nvPicPr>
        <p:blipFill>
          <a:blip r:embed="rId2"/>
          <a:srcRect l="0" t="50900" r="0" b="0"/>
          <a:stretch/>
        </p:blipFill>
        <p:spPr>
          <a:xfrm>
            <a:off x="3311640" y="254952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241" name="MH_Text_2"/>
          <p:cNvSpPr/>
          <p:nvPr/>
        </p:nvSpPr>
        <p:spPr>
          <a:xfrm>
            <a:off x="3497400" y="4105440"/>
            <a:ext cx="21492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微软雅黑"/>
              </a:rPr>
              <a:t>可以查看作业的分数和视频完成情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MH_SubTitle_2"/>
          <p:cNvSpPr/>
          <p:nvPr/>
        </p:nvSpPr>
        <p:spPr>
          <a:xfrm>
            <a:off x="3497400" y="3463920"/>
            <a:ext cx="21492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3e02"/>
                </a:solidFill>
                <a:latin typeface="微软雅黑"/>
                <a:ea typeface="微软雅黑"/>
              </a:rPr>
              <a:t>章节统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MH_Other_5"/>
          <p:cNvSpPr/>
          <p:nvPr/>
        </p:nvSpPr>
        <p:spPr>
          <a:xfrm>
            <a:off x="6453360" y="2549520"/>
            <a:ext cx="1520640" cy="749160"/>
          </a:xfrm>
          <a:prstGeom prst="pie">
            <a:avLst/>
          </a:prstGeom>
          <a:solidFill>
            <a:srgbClr val="c68f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幼圆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MH_Other_6" descr=""/>
          <p:cNvPicPr/>
          <p:nvPr/>
        </p:nvPicPr>
        <p:blipFill>
          <a:blip r:embed="rId3"/>
          <a:srcRect l="0" t="50900" r="0" b="0"/>
          <a:stretch/>
        </p:blipFill>
        <p:spPr>
          <a:xfrm>
            <a:off x="5952960" y="2549520"/>
            <a:ext cx="2521080" cy="108000"/>
          </a:xfrm>
          <a:prstGeom prst="rect">
            <a:avLst/>
          </a:prstGeom>
          <a:ln w="0">
            <a:noFill/>
          </a:ln>
        </p:spPr>
      </p:pic>
      <p:sp>
        <p:nvSpPr>
          <p:cNvPr id="245" name="MH_Text_3"/>
          <p:cNvSpPr/>
          <p:nvPr/>
        </p:nvSpPr>
        <p:spPr>
          <a:xfrm>
            <a:off x="6138720" y="4105440"/>
            <a:ext cx="214956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微软雅黑"/>
              </a:rPr>
              <a:t>可以按照月份查看每个月的访问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MH_SubTitle_3"/>
          <p:cNvSpPr/>
          <p:nvPr/>
        </p:nvSpPr>
        <p:spPr>
          <a:xfrm>
            <a:off x="6138720" y="3463920"/>
            <a:ext cx="21495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9514d"/>
                </a:solidFill>
                <a:latin typeface="微软雅黑"/>
                <a:ea typeface="微软雅黑"/>
              </a:rPr>
              <a:t>访问统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9120" y="169920"/>
            <a:ext cx="78868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7a452"/>
                </a:solidFill>
                <a:latin typeface="黑体"/>
              </a:rPr>
              <a:t>六：手机客户端学习</a:t>
            </a:r>
            <a:endParaRPr b="1" lang="en-US" sz="28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248" name="Picture 13" descr="C:\Documents and Settings\Administrator\Application Data\Tencent\Users\31584472\QQ\WinTemp\RichOle\{LH}`Z%8XYEACRVW`0M[282.png"/>
          <p:cNvPicPr/>
          <p:nvPr/>
        </p:nvPicPr>
        <p:blipFill>
          <a:blip r:embed="rId1"/>
          <a:stretch/>
        </p:blipFill>
        <p:spPr>
          <a:xfrm>
            <a:off x="703440" y="1233360"/>
            <a:ext cx="64245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7" descr="C:\Documents and Settings\Administrator\Application Data\Tencent\Users\31584472\QQ\WinTemp\RichOle\5S`L0FZ@X]O{B[KC}V8@W(F.png"/>
          <p:cNvPicPr/>
          <p:nvPr/>
        </p:nvPicPr>
        <p:blipFill>
          <a:blip r:embed="rId1"/>
          <a:stretch/>
        </p:blipFill>
        <p:spPr>
          <a:xfrm>
            <a:off x="1844640" y="1814400"/>
            <a:ext cx="4457880" cy="4410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1440" y="958680"/>
            <a:ext cx="8291520" cy="109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98e0d"/>
                </a:solidFill>
                <a:latin typeface="黑体"/>
              </a:rPr>
              <a:t>手机界面图：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51" name="AutoShape 206"/>
          <p:cNvSpPr/>
          <p:nvPr/>
        </p:nvSpPr>
        <p:spPr>
          <a:xfrm>
            <a:off x="3289320" y="5672160"/>
            <a:ext cx="960480" cy="276120"/>
          </a:xfrm>
          <a:prstGeom prst="wedgeRoundRectCallout">
            <a:avLst>
              <a:gd name="adj1" fmla="val -68898"/>
              <a:gd name="adj2" fmla="val -124250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登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6"/>
          <p:cNvSpPr/>
          <p:nvPr/>
        </p:nvSpPr>
        <p:spPr>
          <a:xfrm>
            <a:off x="3768840" y="3552840"/>
            <a:ext cx="1819080" cy="326880"/>
          </a:xfrm>
          <a:prstGeom prst="wedgeRoundRectCallout">
            <a:avLst>
              <a:gd name="adj1" fmla="val -68898"/>
              <a:gd name="adj2" fmla="val -124250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输入手机号或邮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"/>
          <p:cNvSpPr/>
          <p:nvPr/>
        </p:nvSpPr>
        <p:spPr>
          <a:xfrm>
            <a:off x="3768840" y="4267080"/>
            <a:ext cx="1819080" cy="328680"/>
          </a:xfrm>
          <a:prstGeom prst="wedgeRoundRectCallout">
            <a:avLst>
              <a:gd name="adj1" fmla="val -68898"/>
              <a:gd name="adj2" fmla="val -124250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输入手机验证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任意多边形 31"/>
          <p:cNvSpPr/>
          <p:nvPr/>
        </p:nvSpPr>
        <p:spPr>
          <a:xfrm>
            <a:off x="1712880" y="3089160"/>
            <a:ext cx="2027160" cy="406440"/>
          </a:xfrm>
          <a:prstGeom prst="pie">
            <a:avLst/>
          </a:prstGeom>
          <a:solidFill>
            <a:srgbClr val="ffffff"/>
          </a:solidFill>
          <a:ln w="4140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252"/>
                </a:solidFill>
                <a:latin typeface="微软雅黑"/>
                <a:ea typeface="微软雅黑"/>
              </a:rPr>
              <a:t>系统登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32"/>
          <p:cNvSpPr/>
          <p:nvPr/>
        </p:nvSpPr>
        <p:spPr>
          <a:xfrm>
            <a:off x="1851120" y="3753000"/>
            <a:ext cx="2039760" cy="406080"/>
          </a:xfrm>
          <a:prstGeom prst="pie">
            <a:avLst/>
          </a:prstGeom>
          <a:solidFill>
            <a:srgbClr val="ffffff"/>
          </a:solidFill>
          <a:ln w="4140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252"/>
                </a:solidFill>
                <a:latin typeface="微软雅黑"/>
                <a:ea typeface="微软雅黑"/>
              </a:rPr>
              <a:t>如何参加学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33"/>
          <p:cNvSpPr/>
          <p:nvPr/>
        </p:nvSpPr>
        <p:spPr>
          <a:xfrm>
            <a:off x="1655640" y="4495680"/>
            <a:ext cx="2027520" cy="406440"/>
          </a:xfrm>
          <a:prstGeom prst="pie">
            <a:avLst/>
          </a:prstGeom>
          <a:solidFill>
            <a:srgbClr val="ffffff"/>
          </a:solidFill>
          <a:ln w="4140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252"/>
                </a:solidFill>
                <a:latin typeface="微软雅黑"/>
                <a:ea typeface="微软雅黑"/>
              </a:rPr>
              <a:t>如何查看统计</a:t>
            </a:r>
            <a:r>
              <a:rPr b="0" lang="en-US" sz="1600" spc="-1" strike="noStrike">
                <a:solidFill>
                  <a:srgbClr val="525252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34"/>
          <p:cNvSpPr/>
          <p:nvPr/>
        </p:nvSpPr>
        <p:spPr>
          <a:xfrm>
            <a:off x="5391000" y="3059280"/>
            <a:ext cx="2025720" cy="406080"/>
          </a:xfrm>
          <a:prstGeom prst="pie">
            <a:avLst/>
          </a:prstGeom>
          <a:solidFill>
            <a:srgbClr val="ffffff"/>
          </a:solidFill>
          <a:ln w="4140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0" rIns="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252"/>
                </a:solidFill>
                <a:latin typeface="微软雅黑"/>
                <a:ea typeface="微软雅黑"/>
              </a:rPr>
              <a:t>如何做作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35"/>
          <p:cNvSpPr/>
          <p:nvPr/>
        </p:nvSpPr>
        <p:spPr>
          <a:xfrm>
            <a:off x="5095800" y="3753000"/>
            <a:ext cx="2025720" cy="404640"/>
          </a:xfrm>
          <a:prstGeom prst="pie">
            <a:avLst/>
          </a:prstGeom>
          <a:solidFill>
            <a:srgbClr val="ffffff"/>
          </a:solidFill>
          <a:ln w="4140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0" rIns="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252"/>
                </a:solidFill>
                <a:latin typeface="微软雅黑"/>
                <a:ea typeface="微软雅黑"/>
              </a:rPr>
              <a:t>如何参加考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36"/>
          <p:cNvSpPr/>
          <p:nvPr/>
        </p:nvSpPr>
        <p:spPr>
          <a:xfrm>
            <a:off x="5521320" y="4410000"/>
            <a:ext cx="2027160" cy="406440"/>
          </a:xfrm>
          <a:prstGeom prst="pie">
            <a:avLst/>
          </a:prstGeom>
          <a:solidFill>
            <a:srgbClr val="ffffff"/>
          </a:solidFill>
          <a:ln w="4140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0" rIns="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252"/>
                </a:solidFill>
                <a:latin typeface="微软雅黑"/>
                <a:ea typeface="微软雅黑"/>
              </a:rPr>
              <a:t>手机客户端学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30"/>
          <p:cNvSpPr/>
          <p:nvPr/>
        </p:nvSpPr>
        <p:spPr>
          <a:xfrm rot="1069200">
            <a:off x="2125440" y="2560680"/>
            <a:ext cx="2531880" cy="2759040"/>
          </a:xfrm>
          <a:custGeom>
            <a:avLst/>
            <a:gdLst>
              <a:gd name="textAreaLeft" fmla="*/ 0 w 2531880"/>
              <a:gd name="textAreaRight" fmla="*/ 2532240 w 2531880"/>
              <a:gd name="textAreaTop" fmla="*/ 0 h 2759040"/>
              <a:gd name="textAreaBottom" fmla="*/ 2759400 h 2759040"/>
            </a:gdLst>
            <a:ahLst/>
            <a:rect l="textAreaLeft" t="textAreaTop" r="textAreaRight" b="textAreaBottom"/>
            <a:pathLst>
              <a:path w="3436648" h="3744044">
                <a:moveTo>
                  <a:pt x="1564626" y="0"/>
                </a:moveTo>
                <a:cubicBezTo>
                  <a:pt x="2598515" y="0"/>
                  <a:pt x="3436648" y="838133"/>
                  <a:pt x="3436648" y="1872022"/>
                </a:cubicBezTo>
                <a:cubicBezTo>
                  <a:pt x="3436648" y="2905911"/>
                  <a:pt x="2598515" y="3744044"/>
                  <a:pt x="1564626" y="3744044"/>
                </a:cubicBezTo>
                <a:cubicBezTo>
                  <a:pt x="1382192" y="3744044"/>
                  <a:pt x="1205852" y="3717948"/>
                  <a:pt x="1039512" y="3667999"/>
                </a:cubicBezTo>
                <a:cubicBezTo>
                  <a:pt x="1150762" y="3690559"/>
                  <a:pt x="1265885" y="3702108"/>
                  <a:pt x="1383706" y="3702108"/>
                </a:cubicBezTo>
                <a:cubicBezTo>
                  <a:pt x="2358045" y="3702108"/>
                  <a:pt x="3147902" y="2912251"/>
                  <a:pt x="3147902" y="1937912"/>
                </a:cubicBezTo>
                <a:cubicBezTo>
                  <a:pt x="3147902" y="963573"/>
                  <a:pt x="2358045" y="173716"/>
                  <a:pt x="1383706" y="173716"/>
                </a:cubicBezTo>
                <a:cubicBezTo>
                  <a:pt x="822226" y="173716"/>
                  <a:pt x="322009" y="436016"/>
                  <a:pt x="0" y="845630"/>
                </a:cubicBezTo>
                <a:cubicBezTo>
                  <a:pt x="333766" y="336060"/>
                  <a:pt x="909951" y="0"/>
                  <a:pt x="1564626" y="0"/>
                </a:cubicBez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39"/>
          <p:cNvSpPr/>
          <p:nvPr/>
        </p:nvSpPr>
        <p:spPr>
          <a:xfrm>
            <a:off x="3343320" y="3003480"/>
            <a:ext cx="547560" cy="547920"/>
          </a:xfrm>
          <a:prstGeom prst="ellipse">
            <a:avLst/>
          </a:prstGeom>
          <a:solidFill>
            <a:srgbClr val="99cb38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40"/>
          <p:cNvSpPr/>
          <p:nvPr/>
        </p:nvSpPr>
        <p:spPr>
          <a:xfrm>
            <a:off x="3618000" y="3666960"/>
            <a:ext cx="547560" cy="547920"/>
          </a:xfrm>
          <a:prstGeom prst="ellipse">
            <a:avLst/>
          </a:prstGeom>
          <a:solidFill>
            <a:srgbClr val="99cb38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41"/>
          <p:cNvSpPr/>
          <p:nvPr/>
        </p:nvSpPr>
        <p:spPr>
          <a:xfrm>
            <a:off x="3286080" y="4410000"/>
            <a:ext cx="547560" cy="547920"/>
          </a:xfrm>
          <a:prstGeom prst="ellipse">
            <a:avLst/>
          </a:prstGeom>
          <a:solidFill>
            <a:srgbClr val="99cb38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30"/>
          <p:cNvSpPr/>
          <p:nvPr/>
        </p:nvSpPr>
        <p:spPr>
          <a:xfrm flipH="1" rot="20530800">
            <a:off x="4522680" y="2560680"/>
            <a:ext cx="2533680" cy="2759040"/>
          </a:xfrm>
          <a:custGeom>
            <a:avLst/>
            <a:gdLst>
              <a:gd name="textAreaLeft" fmla="*/ 360 w 2533680"/>
              <a:gd name="textAreaRight" fmla="*/ 2534400 w 2533680"/>
              <a:gd name="textAreaTop" fmla="*/ 0 h 2759040"/>
              <a:gd name="textAreaBottom" fmla="*/ 2759400 h 2759040"/>
            </a:gdLst>
            <a:ahLst/>
            <a:rect l="textAreaLeft" t="textAreaTop" r="textAreaRight" b="textAreaBottom"/>
            <a:pathLst>
              <a:path w="3436648" h="3744044">
                <a:moveTo>
                  <a:pt x="1564626" y="0"/>
                </a:moveTo>
                <a:cubicBezTo>
                  <a:pt x="2598515" y="0"/>
                  <a:pt x="3436648" y="838133"/>
                  <a:pt x="3436648" y="1872022"/>
                </a:cubicBezTo>
                <a:cubicBezTo>
                  <a:pt x="3436648" y="2905911"/>
                  <a:pt x="2598515" y="3744044"/>
                  <a:pt x="1564626" y="3744044"/>
                </a:cubicBezTo>
                <a:cubicBezTo>
                  <a:pt x="1382192" y="3744044"/>
                  <a:pt x="1205852" y="3717948"/>
                  <a:pt x="1039512" y="3667999"/>
                </a:cubicBezTo>
                <a:cubicBezTo>
                  <a:pt x="1150762" y="3690559"/>
                  <a:pt x="1265885" y="3702108"/>
                  <a:pt x="1383706" y="3702108"/>
                </a:cubicBezTo>
                <a:cubicBezTo>
                  <a:pt x="2358045" y="3702108"/>
                  <a:pt x="3147902" y="2912251"/>
                  <a:pt x="3147902" y="1937912"/>
                </a:cubicBezTo>
                <a:cubicBezTo>
                  <a:pt x="3147902" y="963573"/>
                  <a:pt x="2358045" y="173716"/>
                  <a:pt x="1383706" y="173716"/>
                </a:cubicBezTo>
                <a:cubicBezTo>
                  <a:pt x="822226" y="173716"/>
                  <a:pt x="322009" y="436016"/>
                  <a:pt x="0" y="845630"/>
                </a:cubicBezTo>
                <a:cubicBezTo>
                  <a:pt x="333766" y="336060"/>
                  <a:pt x="909951" y="0"/>
                  <a:pt x="1564626" y="0"/>
                </a:cubicBez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43"/>
          <p:cNvSpPr/>
          <p:nvPr/>
        </p:nvSpPr>
        <p:spPr>
          <a:xfrm>
            <a:off x="5267160" y="2973240"/>
            <a:ext cx="549360" cy="547920"/>
          </a:xfrm>
          <a:prstGeom prst="ellipse">
            <a:avLst/>
          </a:prstGeom>
          <a:solidFill>
            <a:srgbClr val="99cb38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44"/>
          <p:cNvSpPr/>
          <p:nvPr/>
        </p:nvSpPr>
        <p:spPr>
          <a:xfrm>
            <a:off x="4971960" y="3665520"/>
            <a:ext cx="549360" cy="549360"/>
          </a:xfrm>
          <a:prstGeom prst="ellipse">
            <a:avLst/>
          </a:prstGeom>
          <a:solidFill>
            <a:srgbClr val="99cb38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45"/>
          <p:cNvSpPr/>
          <p:nvPr/>
        </p:nvSpPr>
        <p:spPr>
          <a:xfrm>
            <a:off x="5354640" y="4359240"/>
            <a:ext cx="547560" cy="547560"/>
          </a:xfrm>
          <a:prstGeom prst="ellipse">
            <a:avLst/>
          </a:prstGeom>
          <a:solidFill>
            <a:srgbClr val="99cb38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"/>
          <p:cNvSpPr/>
          <p:nvPr/>
        </p:nvSpPr>
        <p:spPr>
          <a:xfrm>
            <a:off x="3695760" y="1004760"/>
            <a:ext cx="16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b38"/>
                </a:solidFill>
                <a:latin typeface="微软雅黑"/>
                <a:ea typeface="微软雅黑"/>
              </a:rPr>
              <a:t>目 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71440" y="958680"/>
            <a:ext cx="8291520" cy="109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98e0d"/>
                </a:solidFill>
                <a:latin typeface="黑体"/>
              </a:rPr>
              <a:t>手机界面图：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255" name="图片 3" descr=""/>
          <p:cNvPicPr/>
          <p:nvPr/>
        </p:nvPicPr>
        <p:blipFill>
          <a:blip r:embed="rId1"/>
          <a:stretch/>
        </p:blipFill>
        <p:spPr>
          <a:xfrm>
            <a:off x="388800" y="2359080"/>
            <a:ext cx="4029120" cy="20667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4" descr=""/>
          <p:cNvPicPr/>
          <p:nvPr/>
        </p:nvPicPr>
        <p:blipFill>
          <a:blip r:embed="rId2"/>
          <a:stretch/>
        </p:blipFill>
        <p:spPr>
          <a:xfrm>
            <a:off x="4862520" y="1716120"/>
            <a:ext cx="4057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MH_Other_1"/>
          <p:cNvSpPr/>
          <p:nvPr/>
        </p:nvSpPr>
        <p:spPr>
          <a:xfrm>
            <a:off x="611280" y="2360520"/>
            <a:ext cx="126504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a8c85"/>
                </a:solidFill>
                <a:latin typeface="Arial"/>
                <a:ea typeface="微软雅黑"/>
              </a:rPr>
              <a:t>0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MH_SubTitle_1"/>
          <p:cNvSpPr/>
          <p:nvPr/>
        </p:nvSpPr>
        <p:spPr>
          <a:xfrm flipH="1">
            <a:off x="1957320" y="2370240"/>
            <a:ext cx="247968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微软雅黑"/>
              </a:rPr>
              <a:t>必须用手机直接扫官方网站“登录”页面中的二维码来下载官方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微软雅黑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MH_Other_2"/>
          <p:cNvSpPr/>
          <p:nvPr/>
        </p:nvSpPr>
        <p:spPr>
          <a:xfrm>
            <a:off x="763560" y="3444840"/>
            <a:ext cx="3673440" cy="0"/>
          </a:xfrm>
          <a:prstGeom prst="line">
            <a:avLst/>
          </a:prstGeom>
          <a:ln w="38160">
            <a:solidFill>
              <a:srgbClr val="f574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MH_Other_3"/>
          <p:cNvSpPr/>
          <p:nvPr/>
        </p:nvSpPr>
        <p:spPr>
          <a:xfrm>
            <a:off x="611280" y="4265640"/>
            <a:ext cx="126504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98e0d"/>
                </a:solidFill>
                <a:latin typeface="Arial"/>
                <a:ea typeface="微软雅黑"/>
              </a:rPr>
              <a:t>0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MH_SubTitle_3"/>
          <p:cNvSpPr/>
          <p:nvPr/>
        </p:nvSpPr>
        <p:spPr>
          <a:xfrm flipH="1">
            <a:off x="1957320" y="4330800"/>
            <a:ext cx="24796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微软雅黑"/>
              </a:rPr>
              <a:t>手机播放视频卡的话，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微软雅黑"/>
              </a:rPr>
              <a:t>点击视频右上角，手动切换公网标清和本地标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MH_Other_4"/>
          <p:cNvSpPr/>
          <p:nvPr/>
        </p:nvSpPr>
        <p:spPr>
          <a:xfrm>
            <a:off x="763560" y="5349960"/>
            <a:ext cx="3673440" cy="0"/>
          </a:xfrm>
          <a:prstGeom prst="line">
            <a:avLst/>
          </a:prstGeom>
          <a:ln w="38160">
            <a:solidFill>
              <a:srgbClr val="7f8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MH_Other_5"/>
          <p:cNvSpPr/>
          <p:nvPr/>
        </p:nvSpPr>
        <p:spPr>
          <a:xfrm>
            <a:off x="4707000" y="2360520"/>
            <a:ext cx="126504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dc233"/>
                </a:solidFill>
                <a:latin typeface="Arial"/>
                <a:ea typeface="微软雅黑"/>
              </a:rPr>
              <a:t>0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MH_SubTitle_2"/>
          <p:cNvSpPr/>
          <p:nvPr/>
        </p:nvSpPr>
        <p:spPr>
          <a:xfrm flipH="1">
            <a:off x="6053040" y="2411280"/>
            <a:ext cx="24796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微软雅黑"/>
              </a:rPr>
              <a:t>手机看视频的时候一定要下载客户端，用网页看的话是无法看下一集的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微软雅黑"/>
              </a:rPr>
              <a:t>同时也没有学习记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MH_Other_6"/>
          <p:cNvSpPr/>
          <p:nvPr/>
        </p:nvSpPr>
        <p:spPr>
          <a:xfrm>
            <a:off x="4859280" y="3444840"/>
            <a:ext cx="3673440" cy="0"/>
          </a:xfrm>
          <a:prstGeom prst="line">
            <a:avLst/>
          </a:prstGeom>
          <a:ln w="38160">
            <a:solidFill>
              <a:srgbClr val="fdc23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MH_Other_7"/>
          <p:cNvSpPr/>
          <p:nvPr/>
        </p:nvSpPr>
        <p:spPr>
          <a:xfrm>
            <a:off x="4707000" y="4265640"/>
            <a:ext cx="126504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b0e3"/>
                </a:solidFill>
                <a:latin typeface="Arial"/>
                <a:ea typeface="微软雅黑"/>
              </a:rPr>
              <a:t>0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MH_SubTitle_4"/>
          <p:cNvSpPr/>
          <p:nvPr/>
        </p:nvSpPr>
        <p:spPr>
          <a:xfrm flipH="1">
            <a:off x="6053040" y="4083120"/>
            <a:ext cx="24796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微软雅黑"/>
              </a:rPr>
              <a:t>目前平台支持包括安卓系统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微软雅黑"/>
              </a:rPr>
              <a:t>iOS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微软雅黑"/>
              </a:rPr>
              <a:t>系统的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微软雅黑"/>
              </a:rPr>
              <a:t>手机与平板电脑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微软雅黑"/>
              </a:rPr>
              <a:t>移动终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MH_Other_8"/>
          <p:cNvSpPr/>
          <p:nvPr/>
        </p:nvSpPr>
        <p:spPr>
          <a:xfrm>
            <a:off x="4859280" y="5349960"/>
            <a:ext cx="3673440" cy="0"/>
          </a:xfrm>
          <a:prstGeom prst="line">
            <a:avLst/>
          </a:prstGeom>
          <a:ln w="38160">
            <a:solidFill>
              <a:srgbClr val="33b0e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3560" y="1171440"/>
            <a:ext cx="78868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7a452"/>
                </a:solidFill>
                <a:latin typeface="黑体"/>
                <a:ea typeface="宋体"/>
              </a:rPr>
              <a:t>手机客户端常见问题</a:t>
            </a:r>
            <a:endParaRPr b="1" lang="en-US" sz="2000" spc="-1" strike="noStrike">
              <a:solidFill>
                <a:srgbClr val="87a452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任意多边形 2"/>
          <p:cNvSpPr/>
          <p:nvPr/>
        </p:nvSpPr>
        <p:spPr>
          <a:xfrm>
            <a:off x="1496880" y="2430360"/>
            <a:ext cx="6008760" cy="2219400"/>
          </a:xfrm>
          <a:custGeom>
            <a:avLst/>
            <a:gdLst>
              <a:gd name="textAreaLeft" fmla="*/ 0 w 6008760"/>
              <a:gd name="textAreaRight" fmla="*/ 6009120 w 600876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6008914" h="2220686">
                <a:moveTo>
                  <a:pt x="0" y="452846"/>
                </a:moveTo>
                <a:lnTo>
                  <a:pt x="252548" y="1793966"/>
                </a:lnTo>
                <a:lnTo>
                  <a:pt x="5320937" y="2220686"/>
                </a:lnTo>
                <a:lnTo>
                  <a:pt x="6008914" y="0"/>
                </a:lnTo>
                <a:lnTo>
                  <a:pt x="0" y="452846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3"/>
          <p:cNvSpPr/>
          <p:nvPr/>
        </p:nvSpPr>
        <p:spPr>
          <a:xfrm>
            <a:off x="7562880" y="2482920"/>
            <a:ext cx="399960" cy="158760"/>
          </a:xfrm>
          <a:custGeom>
            <a:avLst/>
            <a:gdLst>
              <a:gd name="textAreaLeft" fmla="*/ 0 w 399960"/>
              <a:gd name="textAreaRight" fmla="*/ 400320 w 39996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00050" h="158750">
                <a:moveTo>
                  <a:pt x="0" y="152400"/>
                </a:moveTo>
                <a:lnTo>
                  <a:pt x="374650" y="0"/>
                </a:lnTo>
                <a:lnTo>
                  <a:pt x="400050" y="158750"/>
                </a:lnTo>
                <a:lnTo>
                  <a:pt x="0" y="1524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4"/>
          <p:cNvSpPr/>
          <p:nvPr/>
        </p:nvSpPr>
        <p:spPr>
          <a:xfrm>
            <a:off x="7435800" y="1936800"/>
            <a:ext cx="368280" cy="342720"/>
          </a:xfrm>
          <a:custGeom>
            <a:avLst/>
            <a:gdLst>
              <a:gd name="textAreaLeft" fmla="*/ 0 w 368280"/>
              <a:gd name="textAreaRight" fmla="*/ 368640 w 3682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368300" h="342900">
                <a:moveTo>
                  <a:pt x="0" y="342900"/>
                </a:moveTo>
                <a:lnTo>
                  <a:pt x="254000" y="0"/>
                </a:lnTo>
                <a:lnTo>
                  <a:pt x="368300" y="139700"/>
                </a:lnTo>
                <a:lnTo>
                  <a:pt x="0" y="3429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5"/>
          <p:cNvSpPr/>
          <p:nvPr/>
        </p:nvSpPr>
        <p:spPr>
          <a:xfrm rot="21345000">
            <a:off x="1380600" y="2419200"/>
            <a:ext cx="612468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odoni MT Black"/>
                <a:ea typeface="幼圆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6"/>
          <p:cNvSpPr/>
          <p:nvPr/>
        </p:nvSpPr>
        <p:spPr>
          <a:xfrm rot="298200">
            <a:off x="4251240" y="4061880"/>
            <a:ext cx="25513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Bell MT"/>
                <a:ea typeface="华文仿宋"/>
              </a:rPr>
              <a:t>北京超星尔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MH_SubTitle_1"/>
          <p:cNvSpPr/>
          <p:nvPr/>
        </p:nvSpPr>
        <p:spPr>
          <a:xfrm>
            <a:off x="874800" y="3621240"/>
            <a:ext cx="1981080" cy="992160"/>
          </a:xfrm>
          <a:prstGeom prst="pie">
            <a:avLst/>
          </a:prstGeom>
          <a:solidFill>
            <a:srgbClr val="72c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03030"/>
                </a:solidFill>
                <a:latin typeface="Arial"/>
                <a:ea typeface="微软雅黑"/>
              </a:rPr>
              <a:t>进入学习网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MH_Text_1"/>
          <p:cNvSpPr/>
          <p:nvPr/>
        </p:nvSpPr>
        <p:spPr>
          <a:xfrm>
            <a:off x="838080" y="2481120"/>
            <a:ext cx="2054520" cy="1122480"/>
          </a:xfrm>
          <a:prstGeom prst="pie">
            <a:avLst/>
          </a:prstGeom>
          <a:solidFill>
            <a:srgbClr val="c5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  <a:ea typeface="微软雅黑"/>
              </a:rPr>
              <a:t>（一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MH_SubTitle_2"/>
          <p:cNvSpPr/>
          <p:nvPr/>
        </p:nvSpPr>
        <p:spPr>
          <a:xfrm>
            <a:off x="3497400" y="3603600"/>
            <a:ext cx="1981080" cy="992160"/>
          </a:xfrm>
          <a:prstGeom prst="pie">
            <a:avLst/>
          </a:prstGeom>
          <a:solidFill>
            <a:srgbClr val="72c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03030"/>
                </a:solidFill>
                <a:latin typeface="Arial"/>
                <a:ea typeface="微软雅黑"/>
              </a:rPr>
              <a:t>点击网站右上角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03030"/>
                </a:solidFill>
                <a:latin typeface="Arial"/>
                <a:ea typeface="微软雅黑"/>
              </a:rPr>
              <a:t>       </a:t>
            </a:r>
            <a:r>
              <a:rPr b="1" lang="zh-CN" sz="1600" spc="-1" strike="noStrike">
                <a:solidFill>
                  <a:srgbClr val="303030"/>
                </a:solidFill>
                <a:latin typeface="Arial"/>
                <a:ea typeface="微软雅黑"/>
              </a:rPr>
              <a:t>图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MH_Text_2"/>
          <p:cNvSpPr/>
          <p:nvPr/>
        </p:nvSpPr>
        <p:spPr>
          <a:xfrm>
            <a:off x="3559320" y="2481120"/>
            <a:ext cx="2054160" cy="1122480"/>
          </a:xfrm>
          <a:prstGeom prst="pie">
            <a:avLst/>
          </a:prstGeom>
          <a:solidFill>
            <a:srgbClr val="c5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  <a:ea typeface="微软雅黑"/>
              </a:rPr>
              <a:t>（二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MH_SubTitle_3"/>
          <p:cNvSpPr/>
          <p:nvPr/>
        </p:nvSpPr>
        <p:spPr>
          <a:xfrm>
            <a:off x="6316560" y="3621240"/>
            <a:ext cx="1981440" cy="992160"/>
          </a:xfrm>
          <a:prstGeom prst="pie">
            <a:avLst/>
          </a:prstGeom>
          <a:solidFill>
            <a:srgbClr val="72c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03030"/>
                </a:solidFill>
                <a:latin typeface="Arial"/>
                <a:ea typeface="微软雅黑"/>
              </a:rPr>
              <a:t>输入正确的学号和密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MH_Text_3"/>
          <p:cNvSpPr/>
          <p:nvPr/>
        </p:nvSpPr>
        <p:spPr>
          <a:xfrm>
            <a:off x="6280200" y="2481120"/>
            <a:ext cx="2054160" cy="1122480"/>
          </a:xfrm>
          <a:prstGeom prst="pie">
            <a:avLst/>
          </a:prstGeom>
          <a:solidFill>
            <a:srgbClr val="c5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  <a:ea typeface="微软雅黑"/>
              </a:rPr>
              <a:t>（三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20" y="-7776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7a452"/>
                </a:solidFill>
                <a:latin typeface="黑体"/>
              </a:rPr>
              <a:t>一：密码登录问题</a:t>
            </a:r>
            <a:endParaRPr b="1" lang="en-US" sz="28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158" name="Picture 10" descr="C:\Documents and Settings\Administrator\Application Data\Tencent\Users\31584472\QQ\WinTemp\RichOle\1XF(2[2XY9_8[71N[HKKXP2.png"/>
          <p:cNvPicPr/>
          <p:nvPr/>
        </p:nvPicPr>
        <p:blipFill>
          <a:blip r:embed="rId1"/>
          <a:stretch/>
        </p:blipFill>
        <p:spPr>
          <a:xfrm>
            <a:off x="3930480" y="4124160"/>
            <a:ext cx="55908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6"/>
          <p:cNvSpPr/>
          <p:nvPr/>
        </p:nvSpPr>
        <p:spPr>
          <a:xfrm>
            <a:off x="828720" y="1846440"/>
            <a:ext cx="764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1800" spc="-1" strike="noStrike">
                <a:solidFill>
                  <a:srgbClr val="303030"/>
                </a:solidFill>
                <a:latin typeface="Arial"/>
                <a:ea typeface="微软雅黑"/>
              </a:rPr>
              <a:t>进入学习网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30"/>
                </a:solidFill>
                <a:latin typeface="Arial"/>
                <a:ea typeface="微软雅黑"/>
              </a:rPr>
              <a:t>      </a:t>
            </a:r>
            <a:r>
              <a:rPr b="0" lang="en-US" sz="1800" spc="-1" strike="noStrike" u="sng">
                <a:solidFill>
                  <a:srgbClr val="00b0f0"/>
                </a:solidFill>
                <a:uFillTx/>
                <a:latin typeface="Arial"/>
                <a:ea typeface="微软雅黑"/>
                <a:hlinkClick r:id="rId1"/>
              </a:rPr>
              <a:t>http://jlart.benke.chaoxing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30"/>
                </a:solidFill>
                <a:latin typeface="Arial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303030"/>
                </a:solidFill>
                <a:latin typeface="Arial"/>
                <a:ea typeface="微软雅黑"/>
              </a:rPr>
              <a:t>之后，点击网页右上角的图标按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C:\Documents and Settings\Administrator\Application Data\Tencent\Users\31584472\QQ\WinTemp\RichOle\1XF(2[2XY9_8[71N[HKKXP2.png"/>
          <p:cNvPicPr/>
          <p:nvPr/>
        </p:nvPicPr>
        <p:blipFill>
          <a:blip r:embed="rId2"/>
          <a:stretch/>
        </p:blipFill>
        <p:spPr>
          <a:xfrm>
            <a:off x="5146560" y="2952720"/>
            <a:ext cx="9493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C:\Documents and Settings\Administrator\Application Data\Tencent\Users\31584472\QQ\WinTemp\RichOle\[G4PQ@2AA)G1P~XOY8ILBYU.png"/>
          <p:cNvPicPr/>
          <p:nvPr/>
        </p:nvPicPr>
        <p:blipFill>
          <a:blip r:embed="rId1"/>
          <a:stretch/>
        </p:blipFill>
        <p:spPr>
          <a:xfrm>
            <a:off x="2738520" y="1285920"/>
            <a:ext cx="4848120" cy="42670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9"/>
          <p:cNvSpPr/>
          <p:nvPr/>
        </p:nvSpPr>
        <p:spPr>
          <a:xfrm>
            <a:off x="527040" y="2681280"/>
            <a:ext cx="1533600" cy="304920"/>
          </a:xfrm>
          <a:prstGeom prst="wedgeRoundRectCallout">
            <a:avLst>
              <a:gd name="adj1" fmla="val 112759"/>
              <a:gd name="adj2" fmla="val 2229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输入有效的学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9"/>
          <p:cNvSpPr/>
          <p:nvPr/>
        </p:nvSpPr>
        <p:spPr>
          <a:xfrm>
            <a:off x="622440" y="3267000"/>
            <a:ext cx="1596960" cy="304920"/>
          </a:xfrm>
          <a:prstGeom prst="wedgeRoundRectCallout">
            <a:avLst>
              <a:gd name="adj1" fmla="val 107518"/>
              <a:gd name="adj2" fmla="val 1916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输入有效的密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0040" y="1108080"/>
            <a:ext cx="30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0303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303030"/>
                </a:solidFill>
                <a:latin typeface="Arial"/>
              </a:rPr>
              <a:t>）输入学号、密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始密码为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34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46160" y="422280"/>
            <a:ext cx="29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）修改个人信息和密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19080" y="1217520"/>
            <a:ext cx="7191360" cy="476100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206"/>
          <p:cNvSpPr/>
          <p:nvPr/>
        </p:nvSpPr>
        <p:spPr>
          <a:xfrm>
            <a:off x="3552840" y="2141640"/>
            <a:ext cx="771480" cy="385560"/>
          </a:xfrm>
          <a:prstGeom prst="wedgeRoundRectCallout">
            <a:avLst>
              <a:gd name="adj1" fmla="val -72337"/>
              <a:gd name="adj2" fmla="val 66550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设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46160" y="422280"/>
            <a:ext cx="29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）修改个人信息和密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C:\Documents and Settings\Administrator\Application Data\Tencent\Users\31584472\QQ\WinTemp\RichOle\WBYDDHW$YRH81N]HKB64QEW.png"/>
          <p:cNvPicPr/>
          <p:nvPr/>
        </p:nvPicPr>
        <p:blipFill>
          <a:blip r:embed="rId1"/>
          <a:stretch/>
        </p:blipFill>
        <p:spPr>
          <a:xfrm>
            <a:off x="387360" y="2203560"/>
            <a:ext cx="3905280" cy="3828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nts and Settings\Administrator\Application Data\Tencent\Users\31584472\QQ\WinTemp\RichOle\7)E5_CPFSQVKDQM94)L[V(F.png"/>
          <p:cNvPicPr/>
          <p:nvPr/>
        </p:nvPicPr>
        <p:blipFill>
          <a:blip r:embed="rId2"/>
          <a:stretch/>
        </p:blipFill>
        <p:spPr>
          <a:xfrm>
            <a:off x="4572000" y="2192400"/>
            <a:ext cx="4095720" cy="31622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608040" y="1268280"/>
            <a:ext cx="805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之后，进入如下页面：</a:t>
            </a: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</a:t>
            </a:r>
            <a:r>
              <a:rPr b="1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、必须修改密码，否则无法学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                                   </a:t>
            </a: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b</a:t>
            </a:r>
            <a:r>
              <a:rPr b="1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、不绑定手机号或邮箱号，则无法找回丢失的密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                                   </a:t>
            </a: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c</a:t>
            </a:r>
            <a:r>
              <a:rPr b="1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、需要用手机</a:t>
            </a: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pp</a:t>
            </a:r>
            <a:r>
              <a:rPr b="1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学习者，须绑定手机号或邮箱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98e0d"/>
                </a:solidFill>
                <a:latin typeface="黑体"/>
              </a:rPr>
              <a:t>注意事项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9040" y="1650600"/>
            <a:ext cx="8291520" cy="36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7a452"/>
                </a:solidFill>
                <a:latin typeface="幼圆"/>
              </a:rPr>
              <a:t>必须是登录本校正确的域名、正确的学号和密码才可以登录。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7a452"/>
                </a:solidFill>
                <a:latin typeface="幼圆"/>
              </a:rPr>
              <a:t>学生可以通过平台找回密码，点击“找回密码”输入正确的手机号码或者是邮箱即可找回。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7a452"/>
                </a:solidFill>
                <a:latin typeface="幼圆"/>
              </a:rPr>
              <a:t>如果在超星尔雅总站登录，则必须检查是否是自己学校。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marL="3571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7a452"/>
                </a:solidFill>
                <a:latin typeface="幼圆"/>
              </a:rPr>
              <a:t>如果不是自己学校的话，请点击“选择学校”，找到自己      所在学校才可以登录。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MH_Other_1"/>
          <p:cNvSpPr/>
          <p:nvPr/>
        </p:nvSpPr>
        <p:spPr>
          <a:xfrm>
            <a:off x="1409760" y="2017800"/>
            <a:ext cx="1422360" cy="1422360"/>
          </a:xfrm>
          <a:prstGeom prst="ellipse">
            <a:avLst/>
          </a:prstGeom>
          <a:solidFill>
            <a:srgbClr val="db5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MH_SubTitle_1"/>
          <p:cNvSpPr/>
          <p:nvPr/>
        </p:nvSpPr>
        <p:spPr>
          <a:xfrm>
            <a:off x="1479600" y="2087640"/>
            <a:ext cx="1282680" cy="12826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f593c"/>
                </a:solidFill>
                <a:latin typeface="微软雅黑"/>
                <a:ea typeface="微软雅黑"/>
              </a:rPr>
              <a:t>看视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MH_Other_2"/>
          <p:cNvSpPr/>
          <p:nvPr/>
        </p:nvSpPr>
        <p:spPr>
          <a:xfrm>
            <a:off x="3860640" y="2017800"/>
            <a:ext cx="1422720" cy="1422360"/>
          </a:xfrm>
          <a:prstGeom prst="ellipse">
            <a:avLst/>
          </a:prstGeom>
          <a:solidFill>
            <a:srgbClr val="25a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MH_SubTitle_2"/>
          <p:cNvSpPr/>
          <p:nvPr/>
        </p:nvSpPr>
        <p:spPr>
          <a:xfrm>
            <a:off x="3930480" y="2087640"/>
            <a:ext cx="1283040" cy="12826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5abac"/>
                </a:solidFill>
                <a:latin typeface="微软雅黑"/>
                <a:ea typeface="微软雅黑"/>
              </a:rPr>
              <a:t>做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MH_Other_3"/>
          <p:cNvSpPr/>
          <p:nvPr/>
        </p:nvSpPr>
        <p:spPr>
          <a:xfrm>
            <a:off x="6311880" y="2017800"/>
            <a:ext cx="1422360" cy="1422360"/>
          </a:xfrm>
          <a:prstGeom prst="ellipse">
            <a:avLst/>
          </a:prstGeom>
          <a:solidFill>
            <a:srgbClr val="f3aa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MH_SubTitle_3"/>
          <p:cNvSpPr/>
          <p:nvPr/>
        </p:nvSpPr>
        <p:spPr>
          <a:xfrm>
            <a:off x="6381720" y="2087640"/>
            <a:ext cx="1282680" cy="12826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3aa41"/>
                </a:solidFill>
                <a:latin typeface="微软雅黑"/>
                <a:ea typeface="微软雅黑"/>
              </a:rPr>
              <a:t>完成考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6840" y="78840"/>
            <a:ext cx="788508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7a452"/>
                </a:solidFill>
                <a:latin typeface="黑体"/>
              </a:rPr>
              <a:t>二：如何学习</a:t>
            </a:r>
            <a:endParaRPr b="1" lang="en-US" sz="28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81" name="MH_Text_1"/>
          <p:cNvSpPr/>
          <p:nvPr/>
        </p:nvSpPr>
        <p:spPr>
          <a:xfrm>
            <a:off x="1071720" y="3767040"/>
            <a:ext cx="2098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6600"/>
                </a:solidFill>
                <a:latin typeface="幼圆"/>
                <a:ea typeface="微软雅黑"/>
              </a:rPr>
              <a:t>学生登陆空间之后，点击课程，然后进入学习空间，点击章节进行学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MH_Text_2"/>
          <p:cNvSpPr/>
          <p:nvPr/>
        </p:nvSpPr>
        <p:spPr>
          <a:xfrm>
            <a:off x="3522600" y="3767040"/>
            <a:ext cx="2098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6a8c85"/>
                </a:solidFill>
                <a:latin typeface="幼圆"/>
                <a:ea typeface="微软雅黑"/>
              </a:rPr>
              <a:t>看完一集视频之后就要做一个作业才可以进入下一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MH_Text_3"/>
          <p:cNvSpPr/>
          <p:nvPr/>
        </p:nvSpPr>
        <p:spPr>
          <a:xfrm>
            <a:off x="5973840" y="3767040"/>
            <a:ext cx="2098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6600"/>
                </a:solidFill>
                <a:latin typeface="幼圆"/>
                <a:ea typeface="微软雅黑"/>
              </a:rPr>
              <a:t>进入个人学习空间后，点击导航栏里的“考试”，可以查看考试时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gesumei</dc:creator>
  <dc:description/>
  <cp:keywords/>
  <dc:language>en-US</dc:language>
  <cp:lastModifiedBy>Sky123.Org</cp:lastModifiedBy>
  <dcterms:modified xsi:type="dcterms:W3CDTF">2016-04-13T11:21:5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